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hapter 5 - Homeostasis and Transpor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376360" y="2755800"/>
            <a:ext cx="789300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611280" y="1434960"/>
            <a:ext cx="9994680" cy="687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873000" y="1650960"/>
            <a:ext cx="10977840" cy="46990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679760" y="7047000"/>
            <a:ext cx="219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Hypotonic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>
            <a:off x="5829840" y="7047000"/>
            <a:ext cx="171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Isotonic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>
            <a:off x="8934840" y="7047000"/>
            <a:ext cx="2361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Hypertonic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946080" y="622440"/>
            <a:ext cx="11696760" cy="7162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. 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Facilitated Diffusion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- occurs when a membrane “carrier protein” assists substances across the cell membrane;           i.e transport of glucos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1555920" y="914400"/>
            <a:ext cx="9867600" cy="739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D.  Gated/Ion Channel - a small passageway through a protein molecule;  i.e. 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854440" y="1828800"/>
            <a:ext cx="6976800" cy="6603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202680" y="254160"/>
            <a:ext cx="1187460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III.  Active Transport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- movement of a substance across a cell membrane with chemical energy (ATP)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892160" y="2903400"/>
            <a:ext cx="9550440" cy="716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279000" y="456840"/>
            <a:ext cx="12433320" cy="10210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.  Exampl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1. 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Sodium - Potassium Pump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- a chemical mechanism that moves sodium ions out of the cell and pumps potassium ions into the cell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.  A protein carrier molecule changes shape to allow 3 Na ions out and 2 K ions in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.  Results - an electric gradient builds up across the cell membrane.......this allows for the transmission of nerve impulses and movement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360440" y="2768760"/>
            <a:ext cx="1069488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1269720" y="253800"/>
            <a:ext cx="10464840" cy="8902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I.  Metabolism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- all the chemical reactions in a cell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.  Synthesis reactions - production of nutrients, enzymes, and other cell product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.  Energy production - ATP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.  Digestion of nutrient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D.  Excretion of wast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2. 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Endocytosis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- process by which a cell engulfs(surrounds and takes in) substances;  a vesicle(pouch) pinches off the membrane and is taken inside the cell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. 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inocytosis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- movement of solutes or fluid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. 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hagocytosis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- movement of large particl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676520" y="2476440"/>
            <a:ext cx="3809880" cy="419112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7201080" y="2959200"/>
            <a:ext cx="3835080" cy="38354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7506360" y="2246400"/>
            <a:ext cx="2830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phagocytosi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3.  Exocytosis - the passage of substances out of a cell;  this is how cells excrete wastes or secrete useful product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450720" y="655560"/>
            <a:ext cx="11747520" cy="7751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2438280" y="2552760"/>
            <a:ext cx="8128080" cy="612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571680" y="241200"/>
            <a:ext cx="10464480" cy="353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835200" indent="-53676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IV.  Concept Summary: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ells maintain homeostasis and are able to carry out metabolic functions through passive and active transport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3086280" y="4343400"/>
            <a:ext cx="633888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033360" y="3773160"/>
            <a:ext cx="692748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Gill Sans"/>
                <a:ea typeface="Gill Sans"/>
              </a:rPr>
              <a:t>The End</a:t>
            </a:r>
            <a:endParaRPr b="0" lang="en-US" sz="1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825480" y="507960"/>
            <a:ext cx="1184904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II.  Passive Transport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- movement of a substance across a cell membrane without chemical energ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. 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Diffusion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- movement of a substance from an area of higher to lower concentration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724400" indent="-55440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1.  Concentration gradient - the difference in the concentration of molecul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724400" indent="-55440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2.  Equilibrium - when the concentration of the molecules of a substance is the sam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-360" y="342720"/>
            <a:ext cx="12014280" cy="168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lvl="1" marL="1199880" indent="-51408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. 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Osmosis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- diffusion of water and dissolved substances through a cell membran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779480" y="2978280"/>
            <a:ext cx="9185400" cy="5854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215640" y="1270080"/>
            <a:ext cx="125600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1" marL="13334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1.  Direction of Osmos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. 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Hypotonic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- when the water concentration is higher outside the cell &gt; water moves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into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the cell;  i.e. distilled wat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222640" indent="-57168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1)  Increase in turgor pressur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222640" indent="-57168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2)  Cytoly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598320" y="1711440"/>
            <a:ext cx="10477800" cy="6286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1" marL="13334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. 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Hypertonic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- water concentration is higher inside the cell &gt; water moves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out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of the cell;   i.e. 1% or greater NaCl solution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1)  Decrease in turgor pressur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2)  Plasmoly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871560" y="1746360"/>
            <a:ext cx="9070920" cy="6235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1" marL="13334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. 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Isotonic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-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 equal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diffusion of water into and out of cells;   i.e.  0.9% saline solution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